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8E5A-4AE8-459E-874D-229990047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044A-CE54-4A0B-8F6F-406085A2C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1FD7-E20A-4911-945B-9A6407881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513C-CBF8-4A31-AE22-C28AFE40C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1822-8DBF-4514-8398-E3B49C3FC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A48B-37E2-4158-A110-C785E310F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DAD1-9B39-4898-96C3-84E86AB6A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E2F9-BEA3-4A47-8F2B-6626D305F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6090-63B1-44FA-900D-EC48FF17A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8671-9FA6-4535-88C5-6EFAA4B21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683F-6FA4-4D09-84BA-BB0A309A6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B275-BBD2-4825-A491-97F25B450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D2EE1D36-0843-4197-8C66-1CA8BDD39C4D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0055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6005520"/>
            <a:ext cx="9144000" cy="852480"/>
          </a:xfrm>
          <a:prstGeom prst="rect">
            <a:avLst/>
          </a:prstGeom>
          <a:solidFill>
            <a:srgbClr val="604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07B3ECCE-422D-4C91-A739-DE52784373B8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3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55BD4AA0-4217-425B-B8F3-FE57F805B29D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89000" y="5213520"/>
            <a:ext cx="8766000" cy="14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5: Spreadsheet and Worksheet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96:  Worksheets with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nditional Formatting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tional Formatt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nables you to apply formats in a cell when the data in the cell meet conditions you spec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pply conditional formatting to change the font color and cell fill color to identify certain cells that have final values that are above, below, or equal to a specific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54AF89E9-04BD-454A-8376-41CB31FC7CAF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nditional Formatting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7D130F0D-2BAD-453B-A59C-330CD56D4AD4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271520" y="1744560"/>
            <a:ext cx="70167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hart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t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llow you to show information 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umn &amp; Bar charts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values across categorie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e char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how how much each value is of a total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FDFD6AF1-FE63-40B6-819C-CA1DAAFCB51F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arts of a Char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19120" y="1774440"/>
            <a:ext cx="83930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t tit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dentifies the chart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egory axi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 x-axis is used to plot categories of data (horizon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ue axi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 y-axis is used to associate values with the categories you created (verti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9BBCD5D3-856F-49FF-866E-F144A2470E28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arts of a Char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points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rs, columns, or pie slices that represent the numerical data in a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dlin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lines through a chart that help identify points on the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end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 key used to identify the chart’s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67FAFF86-34D4-4737-B85C-E89A82E36E1E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arts of a Char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90C217A1-4A8B-4405-B314-E01FBAB26764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660240" y="2109960"/>
            <a:ext cx="815364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reate Char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cell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Column in the Charts group on the Insert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Clustered Colum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F28B1D23-EFC8-412B-A30D-CBB6AA8C0E28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900000" y="3846600"/>
            <a:ext cx="789624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at Char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Quick Layout down arr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 Tools Design Ribbon, Chart Layout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s chart title,                                 axis titles, and                            grid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492B136B-63BA-477E-8FC2-FA9069FC7CCB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965160" y="3125880"/>
            <a:ext cx="8024760" cy="1339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4254480" y="4459320"/>
            <a:ext cx="35496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Move and Resize Chart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pointer over th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ointer changes to a cross, click and drag the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and drag lower right corner of the chart border to re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2476F0EF-791D-4A40-957F-DFFB79DDD31F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hart Typ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C6FC34D6-30E0-4CD4-8373-22FAEA8C31E5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5183280" y="1581120"/>
            <a:ext cx="3591000" cy="2278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1131840" y="3608280"/>
            <a:ext cx="3435480" cy="2519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3"/>
          <a:stretch/>
        </p:blipFill>
        <p:spPr>
          <a:xfrm>
            <a:off x="5207040" y="3957480"/>
            <a:ext cx="3141720" cy="2246400"/>
          </a:xfrm>
          <a:prstGeom prst="rect">
            <a:avLst/>
          </a:prstGeom>
          <a:ln w="0">
            <a:noFill/>
          </a:ln>
        </p:spPr>
      </p:pic>
      <p:cxnSp>
        <p:nvCxnSpPr>
          <p:cNvPr id="204" name="Straight Arrow Connector 3"/>
          <p:cNvCxnSpPr/>
          <p:nvPr/>
        </p:nvCxnSpPr>
        <p:spPr>
          <a:xfrm>
            <a:off x="3895200" y="1875960"/>
            <a:ext cx="1312200" cy="321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5" name="Straight Arrow Connector 9"/>
          <p:cNvCxnSpPr/>
          <p:nvPr/>
        </p:nvCxnSpPr>
        <p:spPr>
          <a:xfrm>
            <a:off x="3174480" y="3111480"/>
            <a:ext cx="2134440" cy="84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6" name="Straight Arrow Connector 10"/>
          <p:cNvCxnSpPr/>
          <p:nvPr/>
        </p:nvCxnSpPr>
        <p:spPr>
          <a:xfrm>
            <a:off x="3255480" y="2560680"/>
            <a:ext cx="105480" cy="1048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9:35:53Z</dcterms:created>
  <dc:creator>Jean Bissell</dc:creator>
  <dc:description>Copyright 2006 South-Western/Thomson</dc:description>
  <dc:language>en-US</dc:language>
  <cp:lastModifiedBy>Lenessa Keehn</cp:lastModifiedBy>
  <dcterms:modified xsi:type="dcterms:W3CDTF">2011-04-05T14:59:43Z</dcterms:modified>
  <cp:revision>24</cp:revision>
  <dc:subject/>
  <dc:title>Slide 1</dc:title>
</cp:coreProperties>
</file>